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76E0-1BCE-41C7-B456-AA15A34A93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8F92-DDAC-4595-8884-92B18F76F5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A466-1DD2-4C66-A827-E413BDC39A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02EB-3EE1-4E3C-BF63-6E0048CF54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3146-26ED-4826-86E9-8AFAA1DF28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3A9E-F83E-4A66-913C-BF58A89CAB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E95C-9792-4994-A50D-982FE94D8D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5EE1-8635-4EFB-A113-A1620733C7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F723-FA79-42D6-8F6D-61B9965FBB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F596-B1B4-4454-A5C7-E4E3A275C0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BDD-D259-41DF-9371-D7B30E933D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CF46-9835-44F3-9E28-82F6BC63CB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C283-B757-4D18-BEE7-D4192283B1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2657-650E-436B-B271-DDF93D5F11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CAC8-5FCF-4F7F-9C5C-725E076987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0457-6801-43F6-80D8-BE283C7A09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AB6-2924-4783-AF1D-2A3FE51B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786-9D8E-4365-91D2-5FFD09D2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A66-828A-4F3F-A6D1-8FB97B5B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12D-9798-4E1D-910D-4A360A96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58D-355E-4427-91F8-E56CC605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52E-866A-4379-9C78-E505421F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F79-6DB8-475B-BB32-E7927A70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9E4-DA7B-42C0-8A79-D7D32CA6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D92-2413-4E3A-A7EB-4F98AFAE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56C-CA63-4CC7-ACDF-1B5CFFEC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D72-C7E2-4307-A8FD-71A8EC3D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36E-5A2A-4DCE-9D0F-58F004F8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C4D7-B78C-4B11-A159-E5CADDE4087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79297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2060"/>
                </a:solidFill>
                <a:latin typeface="Calibri"/>
              </a:rPr>
              <a:t>ESTADISTICA APLICADA A LAS COMUNICACIONES:</a:t>
            </a:r>
            <a:br>
              <a:rPr sz="4200"/>
            </a:br>
            <a:br>
              <a:rPr sz="4200"/>
            </a:b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CONCEPTOS EN LA INVESTIGACION POR MUESTRE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7 Rectángulo"/>
          <p:cNvSpPr/>
          <p:nvPr/>
        </p:nvSpPr>
        <p:spPr>
          <a:xfrm>
            <a:off x="357120" y="357120"/>
            <a:ext cx="8501040" cy="614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CuadroTexto"/>
          <p:cNvSpPr/>
          <p:nvPr/>
        </p:nvSpPr>
        <p:spPr>
          <a:xfrm>
            <a:off x="2857680" y="4332240"/>
            <a:ext cx="45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Trebuchet MS"/>
              </a:rPr>
              <a:t>Docente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: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Fernando Ca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9 CuadroTexto"/>
          <p:cNvSpPr/>
          <p:nvPr/>
        </p:nvSpPr>
        <p:spPr>
          <a:xfrm>
            <a:off x="6516720" y="600084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Trebuchet MS"/>
              </a:rPr>
              <a:t>Lima, 26 de Octu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0 CuadroTexto"/>
          <p:cNvSpPr/>
          <p:nvPr/>
        </p:nvSpPr>
        <p:spPr>
          <a:xfrm>
            <a:off x="491040" y="5857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SION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42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17375e"/>
                </a:solidFill>
                <a:latin typeface="Calibri"/>
              </a:rPr>
              <a:t>Establecimiento del Marco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Con el fin de cubrir con la encuesta la población objetivo, debe haber alguna lista, mapa o algún otro material aceptable (Marco) que sirva como guía al universo que se cubrir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4240" y="801360"/>
            <a:ext cx="7715520" cy="47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V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Diseño muestral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Para los propósitos de la selección de la muestra debe ser posible dividir la población en unidades de muestreo de forma no ambigua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Todo elemento de la población debe pertenecer a una sola unidad de muestr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15520" cy="600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V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Diseño muestral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Podríamos citar parte del diseño muestral los siguientes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Especificación de las unidades de muestreo; Análisis y determinación del tamaño muestral; Método de selección de la muestra; formulas para los estimadores a utilizar; Formulas para la estimación de los errores muestrales; Control de otros errores ajenos al muestr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807840"/>
            <a:ext cx="7715520" cy="59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Trabajo de Campo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Se consideran trabajo de campo aquellos que consisten en la obtención de las medidas de las variables objeto de estudio , asociadas a las unidades de la población sobre las que se realiza la medición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os elementos del trabajo de campo son: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Las unidades a medir; Las variables objeto de medida, Instrumento de med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15520" cy="30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 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Encuesta Piloto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Permite probar  en campo el cuestionario  y otros métodos de medición, calificar a los encuestadores y verificar el manejo de las operaciones generales de cam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4240" y="791640"/>
            <a:ext cx="7715520" cy="65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Procesamiento de los datos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Dicho procesamiento ha de realizarse de modo automatizado utilizando en la mayor medida posible las prestaciones que ofrecen las nuevas tecnologías de información y comunicación: Entre las tareas que abarca son: Proceso y depuración de cuestionarios; Tabulación de los datos; Análisis de resultados  implementadas con software estadísticos existen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42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Evaluación de Resultados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Después de Obtener los primeros  datos relativos a una encuesta, es necesario proceder a su evaluación con la finalidad de contrastar la calidad de la encuesta antes de proceder a la presentación y difusión de result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155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X.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Presentación de resultados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Es muy necesaria una presentación ordenada y lo suficientemente documentada de los resultados que permita conocer la calidad de los mismos y medir la confianza a depositar en las estimaciones resultante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48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X.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Difusión de resultados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Es necesario trazar un plan de difusión de los resultados de la misma que divulgue lo suficiente la información obtenida: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Difusión en soporte papel; Difusión en soporte magnético CD.ROM; Vía internet;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2093400"/>
            <a:ext cx="7715520" cy="18925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002060"/>
                </a:solidFill>
                <a:latin typeface="Calibri"/>
              </a:rPr>
              <a:t>5. Construcción del Marco Muestral.</a:t>
            </a:r>
            <a:br>
              <a:rPr sz="3900"/>
            </a:br>
            <a:br>
              <a:rPr sz="3900"/>
            </a:br>
            <a:r>
              <a:rPr b="1" lang="es-ES" sz="3900" spc="-1" strike="noStrike">
                <a:solidFill>
                  <a:srgbClr val="002060"/>
                </a:solidFill>
                <a:latin typeface="Calibri"/>
              </a:rPr>
              <a:t>En la sala de TV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5712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I. 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Conceptos en la Investigación por muest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15520" cy="612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I. </a:t>
            </a: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Conceptos en la Investigación por muestreo</a:t>
            </a:r>
            <a:br>
              <a:rPr sz="4000"/>
            </a:b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1. Concepto de muestreo</a:t>
            </a:r>
            <a:br>
              <a:rPr sz="3900"/>
            </a:b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2. El concepto de Encuesta Estadística.</a:t>
            </a:r>
            <a:br>
              <a:rPr sz="3900"/>
            </a:b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3. Población, marco y muestra.</a:t>
            </a:r>
            <a:br>
              <a:rPr sz="3900"/>
            </a:b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4. las distintas fases de la investigación por muestreo</a:t>
            </a:r>
            <a:br>
              <a:rPr sz="3900"/>
            </a:b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5. Construcción del Marco Muestral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14240" y="14292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Sesión 01: </a:t>
            </a: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15520" cy="46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1" lang="es-ES" sz="3900" spc="-1" strike="noStrike">
                <a:solidFill>
                  <a:srgbClr val="002060"/>
                </a:solidFill>
                <a:latin typeface="Calibri"/>
              </a:rPr>
              <a:t>Concepto de muestreo</a:t>
            </a:r>
            <a:br>
              <a:rPr sz="3900"/>
            </a:b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De forma metafórica podríamos  decir que una muestra, que se supone representativa de una población, es similar  a lo que representa una maqueta respecto del edificio del que ofrece una imagen. La muestra al igual que la maqueta, será mejor o peor, según el grado de representatividad que ofrez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12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I. 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Conceptos en la Investigación por muest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15520" cy="36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lang="es-ES" sz="3900" spc="-1" strike="noStrike">
                <a:solidFill>
                  <a:srgbClr val="002060"/>
                </a:solidFill>
                <a:latin typeface="Calibri"/>
              </a:rPr>
              <a:t>Concepto de Encuesta Estadística</a:t>
            </a:r>
            <a:br>
              <a:rPr sz="3900"/>
            </a:b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Es una investigación cuyo objetivo es la recolección de datos. Se tomarán observaciones y mediciones de una muestra de elementos de una población determinada para poder hacer inferencias sobre un grupo de ele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5712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I. 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Conceptos en la Investigación por muest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532908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3. Población, Muestra y Mar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2520" y="768240"/>
            <a:ext cx="8229600" cy="262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2600" indent="-282600" algn="just">
              <a:lnSpc>
                <a:spcPct val="125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Población:</a:t>
            </a:r>
            <a:r>
              <a:rPr b="0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 es el conjunto de todos los elementos que poseen una determinada característica. En general supondremos que la población es muy gran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25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Muestra</a:t>
            </a:r>
            <a:r>
              <a:rPr b="0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: es un subconjunto de la pob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25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Mue</a:t>
            </a: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s</a:t>
            </a: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treo</a:t>
            </a:r>
            <a:r>
              <a:rPr b="0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: es el proceso mediante el cual se escoge una muestra de la pob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Inferencia estadística</a:t>
            </a:r>
            <a:r>
              <a:rPr b="0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: </a:t>
            </a:r>
            <a:r>
              <a:rPr b="0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proceso a través del cual se obtienen conclusiones sobre una población, a través de la información que proporciona una muestra. La confianza de tal extrapolación dependerá de la </a:t>
            </a: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representatividad de la muestra</a:t>
            </a:r>
            <a:r>
              <a:rPr b="0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·  Marco: </a:t>
            </a:r>
            <a:r>
              <a:rPr b="0" lang="es-ES" sz="1600" spc="-1" strike="noStrike">
                <a:solidFill>
                  <a:srgbClr val="1f497d"/>
                </a:solidFill>
                <a:latin typeface="Calibri"/>
                <a:ea typeface="Arial"/>
              </a:rPr>
              <a:t>Relación de unidades de muestreo, de la que selecciona la muestra o marco en sentido restring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v4"/>
          <p:cNvPicPr/>
          <p:nvPr/>
        </p:nvPicPr>
        <p:blipFill>
          <a:blip r:embed="rId1"/>
          <a:stretch/>
        </p:blipFill>
        <p:spPr>
          <a:xfrm>
            <a:off x="415800" y="3500280"/>
            <a:ext cx="3156120" cy="2976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719520" y="3730680"/>
            <a:ext cx="5022720" cy="283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0" indent="-14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La representatividad  de la muestra depende de dos co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8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a) Del mecanismo de selección</a:t>
            </a:r>
            <a:r>
              <a:rPr b="0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: que ha de garantizar que no hay un elemento de la población con más probabilidad que otro de entrar en la muestra. Si no, sería una </a:t>
            </a: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muestra sesg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8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8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b) Del tamaño de la muestra</a:t>
            </a:r>
            <a:r>
              <a:rPr b="0" lang="es-ES_tradnl" sz="1600" spc="-1" strike="noStrike">
                <a:solidFill>
                  <a:srgbClr val="1f497d"/>
                </a:solidFill>
                <a:latin typeface="Calibri"/>
                <a:ea typeface="Arial"/>
              </a:rPr>
              <a:t>: si el mecanismo de selección es correcto, cuanto más grande sea la muestra mayor será la probabilidad de que se parezca a la población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298080" y="500040"/>
            <a:ext cx="41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7375e"/>
                </a:solidFill>
                <a:latin typeface="Cambria"/>
              </a:rPr>
              <a:t>¿Que es una Muest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937080" y="350028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7375e"/>
                </a:solidFill>
                <a:latin typeface="Calibri"/>
              </a:rPr>
              <a:t>SELE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7375e"/>
                </a:solidFill>
                <a:latin typeface="Calibri"/>
              </a:rPr>
              <a:t>PROBABIL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7375e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7375e"/>
                </a:solidFill>
                <a:latin typeface="Calibri"/>
              </a:rPr>
              <a:t>NO PROBABIL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9600" y="1055520"/>
            <a:ext cx="862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7375e"/>
                </a:solidFill>
                <a:latin typeface="Calibri"/>
              </a:rPr>
              <a:t>PORCIÓN DE UNA POBLACIÓN (Población Objetivo) QUE ES SELECCIONADA PARA REPRESENT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95360" y="2421000"/>
            <a:ext cx="1629000" cy="96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0" descr=""/>
          <p:cNvPicPr/>
          <p:nvPr/>
        </p:nvPicPr>
        <p:blipFill>
          <a:blip r:embed="rId2"/>
          <a:stretch/>
        </p:blipFill>
        <p:spPr>
          <a:xfrm>
            <a:off x="2665440" y="4319640"/>
            <a:ext cx="406728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omp_particle_only_short"/>
          <p:cNvPicPr/>
          <p:nvPr/>
        </p:nvPicPr>
        <p:blipFill>
          <a:blip r:embed="rId3"/>
          <a:stretch/>
        </p:blipFill>
        <p:spPr>
          <a:xfrm>
            <a:off x="3017880" y="2644920"/>
            <a:ext cx="4626000" cy="2498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4456080" y="2781360"/>
            <a:ext cx="1628640" cy="96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6588000" y="3141720"/>
            <a:ext cx="1629000" cy="96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8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385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41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En un sentido amplio la finalidad de una encuesta por muestreo es obtener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nformación 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para satisfacer una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necesidad definida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A la hora de llevar a cabo una encuesta por muestreo es necesario tener en cuenta determinadas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 fases 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para su correcta planificación y ejecu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807840"/>
            <a:ext cx="7715520" cy="59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OBJETIVOS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: 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a primera tarea de toda encuesta por muestreo es fijar en términos concretos los objetivos de la misma. Además tener presentes determinados factores como: 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¿Qué información se necesita?, ¿Cuál es el motivo?, ¿Existe información disponible, ¿Existe información auxiliar ?, ¿medios y materiales que se dispone?, Presupuesto.</a:t>
            </a:r>
            <a:r>
              <a:rPr b="0" lang="es-ES_tradnl" sz="2400" spc="-1" strike="noStrike">
                <a:solidFill>
                  <a:srgbClr val="002060"/>
                </a:solidFill>
                <a:latin typeface="Calibri"/>
              </a:rPr>
              <a:t>etc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2109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0"/>
          <p:cNvGrpSpPr/>
          <p:nvPr/>
        </p:nvGrpSpPr>
        <p:grpSpPr>
          <a:xfrm>
            <a:off x="536760" y="1695600"/>
            <a:ext cx="6537240" cy="3821040"/>
            <a:chOff x="536760" y="1695600"/>
            <a:chExt cx="6537240" cy="3821040"/>
          </a:xfrm>
        </p:grpSpPr>
        <p:sp>
          <p:nvSpPr>
            <p:cNvPr id="76" name="Rectangle 3"/>
            <p:cNvSpPr/>
            <p:nvPr/>
          </p:nvSpPr>
          <p:spPr>
            <a:xfrm>
              <a:off x="592200" y="2060640"/>
              <a:ext cx="6481800" cy="3456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536760" y="1695600"/>
              <a:ext cx="247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BLACION 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AutoShape 4"/>
          <p:cNvSpPr/>
          <p:nvPr/>
        </p:nvSpPr>
        <p:spPr>
          <a:xfrm>
            <a:off x="1714680" y="2349360"/>
            <a:ext cx="6941880" cy="2867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7164360" y="1484280"/>
            <a:ext cx="17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BLACION DEL MARCO DE MUEST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36400" y="811080"/>
            <a:ext cx="846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7375e"/>
                </a:solidFill>
                <a:latin typeface="Cambria"/>
              </a:rPr>
              <a:t>II. DELIMITACIÓN DE LA POBLACION OBJETIVO Y MUESTRE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63480" y="3071880"/>
            <a:ext cx="112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incluidas en el marco de muest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181320" y="2349360"/>
            <a:ext cx="3892680" cy="287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BLACION MUESTR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713240" y="266076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local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714680" y="3286080"/>
            <a:ext cx="13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quieren resp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785960" y="4437000"/>
            <a:ext cx="146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pueden resp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7072200" y="3357720"/>
            <a:ext cx="16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s elegible para la encu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2"/>
          <p:cNvGrpSpPr/>
          <p:nvPr/>
        </p:nvGrpSpPr>
        <p:grpSpPr>
          <a:xfrm>
            <a:off x="1747800" y="3284640"/>
            <a:ext cx="1395360" cy="936360"/>
            <a:chOff x="1747800" y="3284640"/>
            <a:chExt cx="1395360" cy="936360"/>
          </a:xfrm>
        </p:grpSpPr>
        <p:sp>
          <p:nvSpPr>
            <p:cNvPr id="88" name="Line 9"/>
            <p:cNvSpPr/>
            <p:nvPr/>
          </p:nvSpPr>
          <p:spPr>
            <a:xfrm>
              <a:off x="1747800" y="3284640"/>
              <a:ext cx="13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1747800" y="4221000"/>
              <a:ext cx="13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5"/>
          <p:cNvSpPr/>
          <p:nvPr/>
        </p:nvSpPr>
        <p:spPr>
          <a:xfrm>
            <a:off x="214200" y="21096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 Fases de la Investigación por muest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Camones</cp:lastModifiedBy>
  <dcterms:modified xsi:type="dcterms:W3CDTF">2010-10-27T02:29:32Z</dcterms:modified>
  <cp:revision>358</cp:revision>
  <dc:subject/>
  <dc:title>¿LAS GRANDES CIUDADES  SON ESPACIOS URBANOS HOMOGENEOS?</dc:title>
</cp:coreProperties>
</file>